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216-FA7C-4753-BA0B-980BA00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82F-FC2F-447A-B7EC-72AF97EA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659-CDD1-4967-AD7E-83674B7E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35A-512D-475E-A096-926A2F44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D1F-2D7E-4773-A1E5-06BAD17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550-5C5C-4097-AB8C-6E12496A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E33-E43E-4581-803E-16268314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C9A-5D93-43ED-994F-513D863A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535-E105-495B-9D09-86E8131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C9A2-CB9C-4DE7-A731-C63FBDBC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311-5B31-4D42-B824-45AFDBA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116-0038-425A-95AF-35F3AEB7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CF4-7C99-4056-BCC0-80AC221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BB38-32CC-4F84-943E-9E40767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6EE-B325-4C12-8EF4-DC88BA43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916-DACD-47B8-8758-E8B59F24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B84-E08E-4BD7-85AD-DD12FB10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08E-5172-4503-ADF0-D17CD1C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197-90D0-4B4D-8E63-C3070FF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F05-3538-40F3-B2A9-9478092A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809-0CFF-4344-8369-46BE890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D28-14DF-4B28-A767-2371D5F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4EA-7B5E-47C5-A1B9-2B6B857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E84-5778-484E-80A5-6F9B933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C5FA-AC6E-4005-BFC3-4E95D1C8D3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6AEA-9555-4B2C-9FC9-76AD46903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LISTENING SKIL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How to Be an Effective Listener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What You Feel about Listen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Want to 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lay jud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dmit your bi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on’t tune out “dry” su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ccept responsibility for understa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ncourage others to tal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How to Be an Effective Listener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What You Do about Listen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stablish eye contact with the spea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Take notes effectiv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Be a physically involved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void negative manneris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xercise your listening musc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Follow the Golden Rule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Listening Comprehen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 comprehension is the act of understanding an oral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nvolves speech decoding, comprehending, and oral discour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nd Perception and Recog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cognising sounds and sound patterns accurately, recognising the way sounds combine to form syllables and uttera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Decoding (Cont.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recog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Recognising words accurately, understanding the definitions of the words being use, recognising the way words are used un context, identifying attention signa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Decoding (Cont.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nt recog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recognise stress, identify pauses, hesitation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hen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hending a verbal message involves the ability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central theme, main ideas and supporting detai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e and understand long spee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level of form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uce incomplet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uce unfamiliar vocabul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al Discours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process of identifying relationships among different units within the speech or oral mess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itud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ential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ening to structured ta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listening analysis-determining the purpose, knowing your spe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ing about the content of a verbal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backgroun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s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nsive List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ing to the introdu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position, knowledge, background, experience of the speak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hi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overall purpose of the tal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central idea or the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overall structu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oes the speaker intend to 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main points of the tal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Basic Communication Skills Profi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ommunication  Order Learned    Extent Used     Extent Tau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istening              First                      First                Fou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peaking              Second                  Second           Thi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ading                Third                     Third             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Writing                 Fourth                   Fourth          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nsive listening (Cont…)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Listening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the main message-pay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 on verbal signp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se main supporting details of the oral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 on visual a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nsive Listening ( Cont.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Listening to the 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main themes of the verbal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se the speaker`s focus of the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 on what the speaker wants the listener`s to do, or rem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Phr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2600" y="1828800"/>
          <a:ext cx="7772400" cy="4338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pose of the spe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gnal phr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Introduces a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ay, I`d like to talk about…, What I am going to discuss i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Develops an id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we critically examine the situation.., The most significant point i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Emphasises a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am sure you will agree with me.., I`d like to emphasise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Contrasts several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 the other hand., In contrast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Shows transition of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 next point i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Conclu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lly.., I`d like to sum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ogical Connectors and Transitional Sign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1828800"/>
          <a:ext cx="7391520" cy="3340080"/>
        </p:xfrm>
        <a:graphic>
          <a:graphicData uri="http://schemas.openxmlformats.org/drawingml/2006/table">
            <a:tbl>
              <a:tblPr/>
              <a:tblGrid>
                <a:gridCol w="2742120"/>
                <a:gridCol w="4649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pose of the spe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cal conn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over, in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ilarly, likew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ontrast, Howev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ws seg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ght, OK, And, Now, That`s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if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other words, For in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entually, For the time being, 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lai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efore, Th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Effective Note Mak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Note making is essential in colle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or lectures, which are a highly condensed methods of passing on inform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or reading, because what you don't write down, you don't reme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Effective Note Making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Note making is a ski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Most people feel defici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It can be learn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This takes understanding of what you're do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It takes practice, which involves effor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Effective Note Making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Note making is difficult beca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poken language is more diffuse than writt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peaker's organization is not immediately appar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Immediate feedback seldom occu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poken language is quickly g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This makes analysis difficul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Five purposes for note making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rovides a written record for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rovides a definite, limited learning tas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Forces you to pay atten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quires organization, and active effort on the part of the listen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istener must condense and rephrase, which aids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equ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isten and focus on mea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Evaluate what is being sa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Is it relevant to your purpose? What are the high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cord the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Make use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Physical f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ea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Near the front and center - easier to see and hea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Avoid distractions - doorways, windows, glare; friends, f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Materi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Loose leaf notebook: lies flat - organization and additions 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easi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Two pens, wide-lined, easy-eye paper; use divid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Course, date, and topic clearly labe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Mea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istening Is With The M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Hearing With The Se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istening Is Consci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An Active Process Of Elici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Ideas, Attitudes And Emo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Interpersonal, Oral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Before taking notes - PREVIE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Prepare yourself mentally - What do you need to get out of thi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Review notes from last time and homework. Nail your attention down tigh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Review the outline from your reading assig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Think through what has happened in the class to d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Generate enthusiasm and interest</a:t>
            </a:r>
            <a:r>
              <a:rPr b="0" lang="en-US" sz="20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Increased knowledge results in increased intere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clear sense of purpose on your part will make the course content more releva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cting as if you are interested can hel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Don't let the personality or mannerisms of a speaker put you of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Be ready to understand and rememb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Anticipate the next step and compare what you've guessed with what happ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Get Involved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Tune-in, look, listen for clues: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Tone or gesture of Prof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Repetition; cue words: "remember!"</a:t>
            </a:r>
            <a:r>
              <a:rPr b="0" lang="en-US" sz="18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Notice what conflicts with your current opin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They are harder to understand and reme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Keep thinking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Look for emerging patter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Write questions in margins to be answered la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While taking no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Don't try for a verbatim transcript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t all of the main ide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cord some details. illustrations, implication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Leave plenty of wide space for later additions - underscore or star major 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Note speaker's organization of material</a:t>
            </a:r>
            <a:r>
              <a:rPr b="0" lang="en-US" sz="16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Organization aids memo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Organization indicates gaps when they occur - you fill i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Be accurate</a:t>
            </a:r>
            <a:r>
              <a:rPr b="0" lang="en-US" sz="16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Listen carefully to what is being s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ay attention to qualifying words like: sometimes, usually, rarely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otice signals that a change of direction is coming: but, however, on the other h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While taking notes (Cont.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Be an aggressive, not a passive, listener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Jot questions in your no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o you believe what you're hearing? What do you believ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eek out meanings. Look for implications beyond what is being sai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late the material to your other classes and your life outside of scho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Develop a shorthand of your own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Jot down words or phrases; use contractions and abbrevi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Leave out small service words, use symbols: +, =,&amp;, ~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Try to get the hang of listening and writing at the same time. It can be done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You may practice listening to the news on TV and taking n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POST VIEW: Don't move - go over notes at once!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view and reword them as soon after class as possible</a:t>
            </a:r>
            <a:r>
              <a:rPr b="0" lang="en-US" sz="16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ild review time into your schedu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on't just recopy or type without thou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"Reminiscing" may provide forgotten material la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write incomplete or skimpy parts in greater detai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ill in gaps as you remember points heard but not recor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rrange with another student to compare no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ind answers to any questions remaining unanswe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Write a brief summary of the class ses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ormulate several generalized test questions based on the ma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POST VIEW: Don't move - go over notes at once!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Use your notes as a learning to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view at spaced intervals it is more effective than the same effort spent cramm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We forget 50% of what we hear immediately, two days later, another 25% is g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t relearning is rapid if regular review is us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Compare the information in your notes with your own experience - don't swallow everything uncriticall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on't reject what seems strange or incorrect. Check it out. Be willing to hold some seeming inconsistencies in your mind over a period of tim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ild a good "thought map" of the ideas. Explain it to anyone who'll liste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emorize that which must be memoriz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THE TEN COMMANDMENTS – KEITH DAVI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top Tal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ut The Talker At 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how Him That You Want To Lis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move Dis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Empathize With H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Be Pat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Hold Your Temp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Go Easy On Arguments And Criticis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Ask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top Talk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Fallacies about Liste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Listening is not my problem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Listening and hearing are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Good readers are good listen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Smarter people are better listen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Listening improves with 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Learning not to list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Thinking about what we are going to say rather than listening to a speak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Talking when we should be listening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Hearing what we expect to hear rather than what is actually sai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Not paying atten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( preoccupation, prejudice, self-centeredness, stero-typ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Georgia"/>
              </a:rPr>
              <a:t>Listening skills are difficult to learn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Stages of the Listening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Focusing on th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Comprehending and interpr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Analyzing and Evalu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spon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Rememb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Types of Liste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Informa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Relationship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ttend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Suppor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mpathiz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Apprecia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er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revious exper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Types of Listening (Cont.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Critical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t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at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Discrimina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Hearing 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wareness of Sound 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Integration of non-verbal c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Barriers to Active Liste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Environment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hysiologic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sychologic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Selec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Negative Listening Att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ersonal Re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Poor Moti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How to Be an Effective Listen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Georgia"/>
              </a:rPr>
              <a:t>What You Think about Listen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Understand the complexities of list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repare to 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djust to the sit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Focus on ideas or key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apitalize on the speed different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Organize material for learning</a:t>
            </a:r>
            <a:r>
              <a:rPr b="0" lang="en-US" sz="24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8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11:45:29Z</dcterms:created>
  <dc:creator/>
  <dc:description/>
  <dc:language>en-US</dc:language>
  <cp:lastModifiedBy>Guru</cp:lastModifiedBy>
  <dcterms:modified xsi:type="dcterms:W3CDTF">2010-01-08T11:47:53Z</dcterms:modified>
  <cp:revision>0</cp:revision>
  <dc:subject/>
  <dc:title>LISTENING SKILLS</dc:title>
</cp:coreProperties>
</file>